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3.jpeg" ContentType="image/jpeg"/>
  <Override PartName="/ppt/media/image8.jpeg" ContentType="image/jpeg"/>
  <Override PartName="/ppt/media/image11.jpeg" ContentType="image/jpeg"/>
  <Override PartName="/ppt/media/image18.wmf" ContentType="image/x-wmf"/>
  <Override PartName="/ppt/media/image16.png" ContentType="image/png"/>
  <Override PartName="/ppt/media/image15.jpeg" ContentType="image/jpeg"/>
  <Override PartName="/ppt/media/image14.wmf" ContentType="image/x-wmf"/>
  <Override PartName="/ppt/media/image1.jpeg" ContentType="image/jpeg"/>
  <Override PartName="/ppt/media/image17.jpeg" ContentType="image/jpeg"/>
  <Override PartName="/ppt/media/image3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2D2-06C4-4306-97E2-5DCD07E9F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F3E-B012-49FF-A848-F625A8BB0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A2EC-89E8-46FB-AF7B-0841385CE4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6137-854F-46FB-B07D-17A3E04F19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867-5C8B-4E18-B021-36717AC3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558-C1E5-4E59-96A3-2DC1F181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797-C6D0-4B88-8129-46E16393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78F-E1A6-4B6B-BE57-87D78978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F14-7CB6-4AD0-BA24-C46B9276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BCE-60FB-4936-9C53-6652FA7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52A-80FE-4480-9528-677F9F1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917-B4CF-435B-B46D-AD8EEF74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652-81F2-4DC4-A543-73354C3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CD0-3127-4BC7-B5F8-5A80826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94A-423C-43A0-AFE6-91F855C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5B4-DD29-4680-9FC4-BDDF9D7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71AC-FF47-4A76-BC22-D0ED743C85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5440"/>
            <a:ext cx="9144000" cy="235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357280"/>
            <a:ext cx="9144000" cy="4500720"/>
          </a:xfrm>
          <a:prstGeom prst="rect">
            <a:avLst/>
          </a:prstGeom>
          <a:solidFill>
            <a:srgbClr val="558ed5"/>
          </a:solidFill>
          <a:ln w="255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 КАМЕННО-БАЛ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 2018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28760" y="160200"/>
            <a:ext cx="3071520" cy="2141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4080" y="260280"/>
            <a:ext cx="8594640" cy="743760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1" descr=""/>
          <p:cNvPicPr/>
          <p:nvPr/>
        </p:nvPicPr>
        <p:blipFill>
          <a:blip r:embed="rId2"/>
          <a:stretch/>
        </p:blipFill>
        <p:spPr>
          <a:xfrm>
            <a:off x="-6480" y="1047600"/>
            <a:ext cx="8614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428760" y="1285920"/>
            <a:ext cx="8501040" cy="5213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намика расходов бюджета  Каменно-Балковского сельского поселения на культуру, кинематографию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Диаграмма 2"/>
          <p:cNvGraphicFramePr/>
          <p:nvPr/>
        </p:nvGraphicFramePr>
        <p:xfrm>
          <a:off x="782640" y="1870200"/>
          <a:ext cx="6929280" cy="421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Диаграмма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2640" y="1870200"/>
                    <a:ext cx="692928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286000" y="1055520"/>
            <a:ext cx="45720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министрация Каменно-Балк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7505, Ростовская область, Орлов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.Каменная Балка, пер.Центральный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Администрации Каменно-Балк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кульчик Людми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.(факс) : (86375) 44-6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307@donрас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(режим)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едельник – пятница – 8.00 – 16.1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аздничные дни – 8.00 – 16.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бота и воскресенье – выходные д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рыв – 12.00 – 13.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прием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понедельник с 16.00 до 17.3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и третий вторник месяца с 08.00 до 10.0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4614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нение бюджета  Каменно-Балковского сельского поселения за 2018 год осуществлялось на основ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760" y="2285640"/>
            <a:ext cx="8572680" cy="4429080"/>
          </a:xfrm>
          <a:prstGeom prst="rect">
            <a:avLst/>
          </a:prstGeom>
          <a:solidFill>
            <a:srgbClr val="ffff00"/>
          </a:solidFill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ложений послания Президента РФ  Федеральному Собранию РФ, определяющих бюджетную политику 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Указов Президента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х направлений бюджетной и налоговой политики  Каменно-Балковского сельского пос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2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5219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6" descr=""/>
          <p:cNvPicPr/>
          <p:nvPr/>
        </p:nvPicPr>
        <p:blipFill>
          <a:blip r:embed="rId1"/>
          <a:stretch/>
        </p:blipFill>
        <p:spPr>
          <a:xfrm>
            <a:off x="900000" y="1352520"/>
            <a:ext cx="7743960" cy="4556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 бюджета  Каменно-Балковского сельского поселения за 2018 год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c0504d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тыс.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1484280"/>
          <a:ext cx="7743960" cy="4584600"/>
        </p:xfrm>
        <a:graphic>
          <a:graphicData uri="http://schemas.openxmlformats.org/drawingml/2006/table">
            <a:tbl>
              <a:tblPr/>
              <a:tblGrid>
                <a:gridCol w="2205000"/>
                <a:gridCol w="1522440"/>
                <a:gridCol w="2117880"/>
                <a:gridCol w="1898640"/>
              </a:tblGrid>
              <a:tr h="104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лановые бюджет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20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. Доходы, 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1261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1365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Times New Roman"/>
                          <a:ea typeface="Times New Roman"/>
                        </a:rPr>
                        <a:t>10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7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I I</a:t>
                      </a: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 Расходы, 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34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1305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9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I I I</a:t>
                      </a: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 Дефицит</a:t>
                      </a:r>
                      <a:r>
                        <a:rPr b="1" i="1" lang="en-US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официт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-79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0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285840" y="142920"/>
            <a:ext cx="8858160" cy="671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1880" y="-360"/>
            <a:ext cx="562608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2100" spc="-1" strike="noStrike">
                <a:solidFill>
                  <a:srgbClr val="558ed5"/>
                </a:solidFill>
                <a:latin typeface="Times New Roman"/>
              </a:rPr>
              <a:t>НАЛОГОВЫЕ И НЕНАЛОГОВЫЕ ДОХОДЫ БЮДЖЕТА КАМЕННО-БАЛКОВСКОГО СЕЛЬСКОГО ПОСЕЛЕНИЯ</a:t>
            </a:r>
            <a:br>
              <a:rPr sz="1800"/>
            </a:b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                               (</a:t>
            </a:r>
            <a:r>
              <a:rPr b="1" lang="ru-RU" sz="1300" spc="-1" strike="noStrike">
                <a:solidFill>
                  <a:srgbClr val="254061"/>
                </a:solidFill>
                <a:latin typeface="Calibri"/>
              </a:rPr>
              <a:t>тыс</a:t>
            </a:r>
            <a:r>
              <a:rPr b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. рублей</a:t>
            </a:r>
            <a:r>
              <a:rPr b="1" lang="ru-RU" sz="1300" spc="-1" strike="noStrike">
                <a:solidFill>
                  <a:srgbClr val="254061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Объект 5"/>
          <p:cNvGraphicFramePr/>
          <p:nvPr/>
        </p:nvGraphicFramePr>
        <p:xfrm>
          <a:off x="3936960" y="2565360"/>
          <a:ext cx="5181480" cy="265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6960" y="2565360"/>
                    <a:ext cx="51814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6"/>
          <p:cNvSpPr/>
          <p:nvPr/>
        </p:nvSpPr>
        <p:spPr>
          <a:xfrm>
            <a:off x="6916680" y="3454560"/>
            <a:ext cx="709560" cy="50004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5364000" y="3152880"/>
            <a:ext cx="576360" cy="50472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4"/>
          <a:stretch/>
        </p:blipFill>
        <p:spPr>
          <a:xfrm>
            <a:off x="285840" y="357120"/>
            <a:ext cx="2857320" cy="170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5"/>
          <a:stretch/>
        </p:blipFill>
        <p:spPr>
          <a:xfrm>
            <a:off x="357120" y="2071800"/>
            <a:ext cx="3000600" cy="184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6"/>
          <a:stretch/>
        </p:blipFill>
        <p:spPr>
          <a:xfrm>
            <a:off x="357120" y="428616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03680" y="285480"/>
            <a:ext cx="634032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Содержимое 3"/>
          <p:cNvGraphicFramePr/>
          <p:nvPr/>
        </p:nvGraphicFramePr>
        <p:xfrm>
          <a:off x="303120" y="1413000"/>
          <a:ext cx="837252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413000"/>
                    <a:ext cx="837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600120" y="260280"/>
            <a:ext cx="794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НАЛОГОВЫХ ДОХОДОВ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МЕННО-БАЛКОВСКОГО СЕЛЬСКОГО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ЕЛЕНИЯ ЗА 2018 Г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(тыс. руб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НЕНАЛОГОВЫХ ДОХОДОВ БЮДЖЕТА  КАМЕННО-БАЛКОВСКОГО СЕЛЬСКОГО ПОСЕЛЕНИЯ ЗА 2018ГОД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                                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(тыс.рублей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Содержимое 3"/>
          <p:cNvGraphicFramePr/>
          <p:nvPr/>
        </p:nvGraphicFramePr>
        <p:xfrm>
          <a:off x="1006560" y="1346040"/>
          <a:ext cx="728172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346040"/>
                    <a:ext cx="728172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КТУРА БЕЗВОЗМЕЗДНЫХ ПОСТУПЛЕНИЙ ЗА 2018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2"/>
          <p:cNvSpPr/>
          <p:nvPr/>
        </p:nvSpPr>
        <p:spPr>
          <a:xfrm>
            <a:off x="2928960" y="2627280"/>
            <a:ext cx="3122640" cy="2032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я (от лат. 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ti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дар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,5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"/>
          <p:cNvSpPr/>
          <p:nvPr/>
        </p:nvSpPr>
        <p:spPr>
          <a:xfrm>
            <a:off x="714240" y="4357800"/>
            <a:ext cx="3429000" cy="223992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13,9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5"/>
          <p:cNvSpPr/>
          <p:nvPr/>
        </p:nvSpPr>
        <p:spPr>
          <a:xfrm>
            <a:off x="5508720" y="4429080"/>
            <a:ext cx="3429000" cy="2239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(от лат.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veni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-приходить на помощ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,9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227640" y="2798640"/>
            <a:ext cx="2386080" cy="1428840"/>
          </a:xfrm>
          <a:prstGeom prst="rect">
            <a:avLst/>
          </a:prstGeom>
          <a:ln w="0">
            <a:noFill/>
          </a:ln>
        </p:spPr>
      </p:pic>
      <p:sp>
        <p:nvSpPr>
          <p:cNvPr id="80" name="Блок-схема: альтернативный процесс 7"/>
          <p:cNvSpPr/>
          <p:nvPr/>
        </p:nvSpPr>
        <p:spPr>
          <a:xfrm>
            <a:off x="3156120" y="1055520"/>
            <a:ext cx="3071520" cy="15717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безвозмездных поступлений 8357,3 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57120" y="2751120"/>
            <a:ext cx="25718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163440" y="1413000"/>
            <a:ext cx="8642520" cy="4786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инамика расходов бюджета  Каменно-</a:t>
            </a:r>
            <a:r>
              <a:rPr b="1" lang="ru-RU" sz="29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	</a:t>
            </a:r>
            <a:r>
              <a:rPr b="1" lang="ru-RU" sz="29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Балковского сельского поселения               в 2017-2018г.г</a:t>
            </a:r>
            <a:r>
              <a:rPr b="1" lang="ru-RU" sz="29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Диаграмма 2"/>
          <p:cNvGraphicFramePr/>
          <p:nvPr/>
        </p:nvGraphicFramePr>
        <p:xfrm>
          <a:off x="1960560" y="2844720"/>
          <a:ext cx="6513480" cy="36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Диаграмма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0560" y="2844720"/>
                    <a:ext cx="651348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5:40:11Z</dcterms:created>
  <dc:creator>User</dc:creator>
  <dc:description/>
  <dc:language>en-US</dc:language>
  <cp:lastModifiedBy>User</cp:lastModifiedBy>
  <dcterms:modified xsi:type="dcterms:W3CDTF">2019-05-22T06:44:24Z</dcterms:modified>
  <cp:revision>496</cp:revision>
  <dc:subject/>
  <dc:title>Основные принципы формирования бюджета Орловского района на 2013 год и на плановый период 2014 и 2015 годов</dc:title>
</cp:coreProperties>
</file>